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25E0AB2-7D9D-4B95-BEF2-08D639BD0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The quotation suggests that we change behavior because we are not content with existing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423F-9950-4AA1-8DD5-7933A334C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8BF1-459A-4B6C-BA37-FAD044D42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FFE8-8EFA-44FC-A484-4A8A3A6D8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8A37-E4A8-42C2-8D2B-4FB656457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B962C-E71B-4D58-BD33-02105D8AD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9312D-5C7E-4BBF-B820-8CFA182F4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39512-A359-4CB0-9F5C-3AD328857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65B56-AA0E-42A9-96A4-2AC3878D0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3FFAF-6215-450D-895D-F8CAF9C6B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46397-8915-4261-8564-4E18A088A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3688A-FA71-4AA8-8488-3CDBF1AA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0A7E-63D8-4447-BB90-E88CE4C95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1EF96-E536-40A7-AEBA-1D5FB207D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5B9B2-5BF6-47F6-8456-F952CCB66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F0AE2-1E3B-4D29-BFBC-4EA72BBC5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55E21-4AEB-4EA7-94D1-31A9DBE07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57D74-2DE6-4080-BCBA-C93C2984C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8A43-609E-4874-B747-5062069A1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59DF-FA53-4D1C-BB72-C1A646050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529B-DC99-4C78-9A30-27E04E2C0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36CF-B452-4C5B-9A34-B72F761DD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2B36-0DEC-48B4-8E85-9F7D2D4C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585E-6C55-4205-85DE-A089AA82C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3B4C-F1C9-45E8-9BE4-2A5EEA6B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2240"/>
                <a:chOff x="0" y="304920"/>
                <a:chExt cx="9144000" cy="64022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5960" cy="6858000"/>
                <a:chOff x="304920" y="0"/>
                <a:chExt cx="85359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180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2560" y="1415880"/>
              <a:ext cx="1787400" cy="2324160"/>
              <a:chOff x="412560" y="1415880"/>
              <a:chExt cx="178740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2560" y="1512720"/>
                <a:ext cx="17874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040" y="1419120"/>
                <a:ext cx="144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3680" cy="193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3680" indent="-2811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7C449B2-892D-4ED5-8519-4C0538FE7E1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180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3240" y="887400"/>
              <a:ext cx="6657840" cy="2851200"/>
              <a:chOff x="3240" y="887400"/>
              <a:chExt cx="665784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180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3240" y="3052440"/>
                <a:ext cx="510048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8040" y="1487160"/>
                <a:ext cx="605304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860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144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388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146052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C50D72-89D0-4F4A-A08D-522A925B498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1640" y="4952520"/>
            <a:ext cx="38862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raig McClure, M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OSG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University of Arizona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arch 200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peten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s of rules becomes exces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earn organizing principles or “perspectives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rspectives permit assorting information by relevan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experience of responsibility arises from active decision-mak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competent physician realizes the multitude of factors influencing the likelihood that a single symptom represents ischemia and has a decision tree to allocate probabilities balancing a number of factors in deciding when to order an EKG or other diagnostic modalities and begin treatment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uitive diagnosi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pproach to problem molded by perspective arising from multiple real world experienc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olistic similarity recognition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earner uses intuition to realize “what” is happen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scious decision-making and rules used to formulate pla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physician realizes “this is an infarction” and then applies rules to decide about thrombolysi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make decis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solve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 what work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 decomposition of situation into discrete elemen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Pattern recognition extends to plan as well as diagnos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is is an infarction and we should implement the following diagnostic and therapeutic interventions.”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When Expertise Fai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xpert uses rules and explicit decision-making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vice: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follows rules and does not feel responsible for outcome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recognizes new situations in which the rules may be applied. Still does not feel responsibl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 </a:t>
            </a: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Compet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Follows rules, applies an organizing “perspective” to determine what elements of the problem are relevant and feels accountable because of decision-making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o become competent you must feel bad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Hubert Dreyfus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learner uses pattern recognition arising from extensive experience to identify the problem (“what” is happening”) and rules and analysis in formulating the “how” of the solution.  A sense of responsibility follows the decision-making.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immediately sees “what” is happening and “how” to approach the situation.  Pattern recognition extends to management plan as well as diagnosis.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utility of the concept of skill acquisition lies in helping the teacher understand how to assist the learner in advancing to the next level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ctivities Studie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irplane pilot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Chess player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utomobile drivers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dult learners of a second langu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i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vi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dvanced Beginn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pet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fici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per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est Opportunity to Obser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structured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 of potentially relevant facts enormou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ariety of solutions exten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The novice follows ru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Specific rules for specific circumstanc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No modifi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Context free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Don’t feel responsible for other than following the ru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arly medical student is taught to obtain an EKG for chest pain, without other modifier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w “situational” elements are identifie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ules begin to be applied to related condi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cisions still are made by rule applic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oes not experience personal responsibil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more experienced medical student finds that dyspnea also might be associated with cardiac ischemia and orders an EKG for that situation as well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raig McClure</dc:creator>
  <dc:description/>
  <dc:language>en-US</dc:language>
  <cp:lastModifiedBy>Craig McClure</cp:lastModifiedBy>
  <cp:revision>0</cp:revision>
  <dc:subject/>
  <dc:title>Dreyfus Model of Skills Acquisition</dc:title>
</cp:coreProperties>
</file>